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AD10-B82F-4D6F-9FA8-8251C376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F818-E4BE-4562-BCC2-B34C8AEB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D5FF-674C-40A5-A2AA-D5A5FAE4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33D-A935-4418-BE47-A36C8245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7D9-63A2-44B8-9758-55EADF17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CBF-5BE3-4EC3-A8A5-D4256B86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4F8D-1715-4192-8D45-2604F094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DE3-2615-44C8-89B9-2D690B30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156-2F5C-4DFB-93E7-B04928B5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1E7E-2CC9-4F23-90E1-949274A6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F29A-F01B-48FB-9A29-3D7149F1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107E-79F6-428C-81A3-B278C0C7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2738-0607-46CA-8248-F178F3AC0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038920" cy="13622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50920" y="5410080"/>
            <a:ext cx="503856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4008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5 days left</a:t>
            </a:r>
            <a:br>
              <a:rPr sz="4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not that we’re counting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xt week - Mon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ast day for kids’ reports to be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Write&gt;check&gt;copy&gt;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Junior Ca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tensive 2.0 Day 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morning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xt week - Tue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nsive 2.0 Day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ning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nsive 2.0 Day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fternoon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nsive (normal)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nior Ca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" dur="1" fill="hold"/>
                                  <p:tgtEl>
                                    <p:spTgt spid="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xt week - Wedne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nsive 2.0 Day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fternoon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nsive (normal)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 recommendations to Si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xt week - Thur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ollowing to Ana Pérez by 11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s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ny Hoja de Asist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clic Hoja de Asistencias to Macar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" dur="1" fill="hold"/>
                                  <p:tgtEl>
                                    <p:spTgt spid="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ther stu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laries will be paid on 22nd D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tras to be collected in J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ffice mo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imetable changes / New intensiv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8" dur="1" fill="hold"/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Xmas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1916280"/>
            <a:ext cx="77752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ve 12:15 -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otel NH Marques de Paradas (in front of Avenida 5 Cines cinema – Don’t be la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rive: Cortijo El Esparragal at about 13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3:00-14:00 – “Gymkhana”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unch, Secret Santa, free bar and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turn: - First bus: about 17:30-18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Second bus: about 19:00-19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9" dur="1" fill="hold"/>
                                  <p:tgtEl>
                                    <p:spTgt spid="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0" dur="1" fill="hold"/>
                                  <p:tgtEl>
                                    <p:spTgt spid="5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bener reports on k dr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idy staff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ttendance up-to-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brary clear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H Conference (Marc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H Conf - Topic sign up 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ve a great Xmas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2:19:59Z</dcterms:created>
  <dc:creator>CDobson</dc:creator>
  <dc:description/>
  <dc:language>en-US</dc:language>
  <cp:lastModifiedBy>BRoberts</cp:lastModifiedBy>
  <dcterms:modified xsi:type="dcterms:W3CDTF">2011-12-16T11:03:09Z</dcterms:modified>
  <cp:revision>119</cp:revision>
  <dc:subject/>
  <dc:title>Diapositiva 1</dc:title>
</cp:coreProperties>
</file>